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5.jpeg" ContentType="image/jpeg"/>
  <Override PartName="/ppt/media/image6.pct" ContentType="image/x-pict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023-4F37-4F48-90B8-20CA4861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8F8-7583-460B-9722-EF0BBEF3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51F-1DBB-4530-BB55-70C53FB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972-D7A3-45A7-BC46-E6ACC132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C53-C73D-4A3E-B885-ACE7A94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D3AF-8C07-492B-8ABF-E70BD3E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DE55-6735-4D81-8255-639313E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8AA-2456-4434-B9C3-E240B124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965E-07D6-44B3-9972-392EC9E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ED7-D9D6-41E2-BCA1-159FAF4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8D1-0B12-43BD-9B63-E6871AB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905-9DED-4604-BBF3-B6E479A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8087-AB99-4AAF-BE68-F423349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3E6-CC6D-4600-AD5C-AA3FA8B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D148-7657-4C22-B726-D28B338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2409-FA3C-464D-BDE9-0A4BBC81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C0D-93FC-40A1-A043-BD5D3124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196-2302-4847-9F67-5C9BFA85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0FC-9040-483E-8616-EE79773C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4ED-110A-4A9B-B6A9-B8F8C8D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6E8-4052-4B50-B0D6-DEB04757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53F-EA81-43CF-86C3-D82B498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E48-17F7-4B6E-8C8D-BBAE59E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F4C-2C03-4914-BD74-C9DEE9A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E3A-757A-41F2-9AC1-A8F4D3A12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374-EDFE-4521-88B8-4FA11FED6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umanbenchmark.com/tests/reactiontime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 of Red Bull on Reaction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ucker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affeine amounts affect dopamin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opamine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addict downward sp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test I found 15 times a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 a Red Bull and wait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5 minutes take test 15 tim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ll the times and averages to see change with and without Red 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people participated in the experiment, and all 20 had improved reaction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that there would be an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 true by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un and educa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action Sp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al of time that occurs between between a stimulus being revealed and the initiation of a muscular response to the presented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severa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easured with differ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umanbenchmark.com/tests/reactiontime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the changing of the screen is the stimulant and the amount of time it take to click the mouse is the reaction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everal times for base, then several times with a Red 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58000" y="5407200"/>
            <a:ext cx="2286000" cy="145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0" y="573408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at Makes Red Bull, Red Bull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ull’s very active list of ingredients is what produces its human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uronolac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rose, Glucose, Vitamin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t Affect the Bo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isted on the can: Improves performance, especially during times of increased stress or strain; Increases endurance; Increases concentration and improves reaction speed; Stimulates th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od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show that it can increase your chance of blood clotting as your blood becomes “sticki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researcher shows that a single can can cause one’s cardiovascular profile to resemble that of someone with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heart palpitations, one in a 15 year old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in som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like a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nduced heart attacks in sever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 affects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chemical 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bonding with receptors causes drowsines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s see caffeine the same as adenos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 binds to receptors so drowsiness cant be caused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denosine blocked neurons in the brain turn on like craz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seems like there is an emergency, the pituitary gland activates the body’s “fight or flight plan” by sending adrenaline throughout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several things in the body (heart, liver, blood vessels, pupils, breathing tub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5:38:14Z</dcterms:created>
  <dc:creator>Tucker Rhodes</dc:creator>
  <dc:description/>
  <dc:language>en-US</dc:language>
  <cp:lastModifiedBy>Tucker Rhodes</cp:lastModifiedBy>
  <dcterms:modified xsi:type="dcterms:W3CDTF">2011-04-20T07:37:55Z</dcterms:modified>
  <cp:revision>3</cp:revision>
  <dc:subject/>
  <dc:title>The Effects of Red Bull on Reaction Speed</dc:title>
</cp:coreProperties>
</file>